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63D-E4CD-4FA8-BC93-EA6403A3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D05-E2C1-49E8-8878-E62299D7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D8A-27C7-492F-BE46-022CFAB5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809-81E1-4078-BEC0-99FEB9F5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701-A9F5-4B91-888E-7EC47E07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692-9147-4B04-A06D-84955FCD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817-3A89-4D59-BFC4-6C693140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3B2-2263-4ADC-BDD0-CB97B4BB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173-51BF-4C14-AAB5-395C3727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837-5219-495B-A598-E5BB1DCE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FBC-45F4-4D7E-9991-581E61C2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6A4-6F12-4DF3-88A0-C92203E6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E091-A372-482D-A032-68C35030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1: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etricmanialogo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50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1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5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9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60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1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4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5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9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3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5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9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jluckey</cp:lastModifiedBy>
  <dcterms:modified xsi:type="dcterms:W3CDTF">2011-08-07T21:55:08Z</dcterms:modified>
  <cp:revision>11</cp:revision>
  <dc:subject/>
  <dc:title>Slide 1</dc:title>
</cp:coreProperties>
</file>